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64E81BC0-CF74-4357-B2C7-B38B842290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F7272495-EECD-46CA-A276-6D642D746B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C589CCDC-88E3-4FE2-9138-1525692B49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8AB6F276-5F0B-4A9A-B9D8-0C2CEA9945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67F3F340-2A1F-4EA3-9CEE-62C6BEB7F2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6CBA6152-F414-4DD3-926F-2AF5EDE0F7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720EF4EB-CD08-4369-888C-155FDBC7F9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B7BF2BE2-923F-42A5-91A2-6A9B154886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41647682-0B91-48FB-994D-BA9BAB8C0E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22947BB3-B66F-491E-AF56-28BAD238DFB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B4A45F44-5A5C-4621-A0CD-EF48076A4C3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EDCED367-33B8-4DF0-B19C-72F1CA5D47B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D98AF44B-927A-4DA1-8CF5-EA09A41A08D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1F4BCCA-5BA1-4EF5-85A3-72FD785BCA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A8B122D-280D-4FFE-8CD7-4E376ADFAA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D5D5121-7250-4D24-9FB9-738BEE25B7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912EF67-9D80-4491-9CF3-65E76F8D6A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6C394A3-B7BC-43AF-AC21-9472702077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4903141-32BC-4F67-9340-90CF1E959A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1CB0AB8-4502-4051-8053-500022804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44A18B15-9E55-4F0A-B11E-C9C31219B5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F378FC1-39C3-4AF3-B4C4-F679F4B6E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DCC3D1D-73A8-408B-BA72-02809D3A6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2EA7509-6876-4F98-9F4A-1C3A6C335E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5228A96-8BD3-4DA3-8718-3F0545D3A1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5650DA7-D4B8-4090-9326-BFCB366F1B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570A69-B460-4818-8BC8-064B2E24EB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8EFEE7-7250-4A65-829C-1A5550CC9E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62E1A0-242F-4062-BA62-5C8535F288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032876-5E53-4F33-8BE4-EF657EADF3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C83B29-4A05-410F-A239-8D63B440A7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2FD1CAE2-EA59-42A8-987C-7F9AB77D31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C6E8F9-D293-40BE-B902-1F55896C0F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544F73-7178-469A-BE03-B3C8FCCEA4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A8E054-92CA-46DB-9ED2-FF5D93A6A2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E7FE72-1013-4A08-8C14-3421654687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AECF18-932C-41AD-BD89-46CEF676AF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861FB2-517F-4DB6-BBCE-EF888A1AE1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30548E-8314-4B61-A2AC-F5056D2E6C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6272C01-8BA8-41FB-A9C1-A009ADCF82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9EB5508-EFCE-4797-9F68-C80FDCFFB0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4F6728A-CAF3-4D6A-9DE8-58F5D45095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5DE3534A-E7B0-402B-AEEC-D54B06FC13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880CDB5-C9C5-41AD-BA25-184E41FBCE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492BBFA-8FC1-4D39-A652-163C89C7EC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E2934D7-B487-4563-B17D-131D6C0287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6A54B96-8FF2-4153-A165-0E97E35636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D5040C3-D4E1-4678-B9B2-37335A5337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AA08730-CED9-40AB-A5A9-5E96AE7C8F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425960F-16B5-471B-8234-E50067F841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C62B25D-DB4B-4DFC-91CC-37D3A166D8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F594643-466D-4530-AE0D-8FD983CE7B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B12B48-476D-4CD4-94CC-21C06F9A1F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6FB93841-03FB-4C11-95A5-66FED541E1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7B1EC5-24D2-4C8D-9FA8-60638C0C48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8E7631-8382-44B9-A8B1-8418CD3869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955C47-4378-47FD-9B71-F5A18DFDCC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F19635-1093-4A65-B6C5-060B6AC526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74E0A6-72BB-4428-8A7D-D9AA70EF59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645E8E-5E82-42BC-8BAE-849463FF38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7FE504-915D-4FB6-BDB9-AC54CD7D82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1C633F-1AAB-455E-8AF7-919B288DD4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C2AD63-8C55-4DB4-B9C4-A2F444D2C0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71B4F9-F024-4E79-AC20-7CE8841612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FCDE62E0-1AA0-4979-85DF-9FD23ED526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79D904-1FA8-442A-A488-BC9784EA8A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D4C305-E21A-42E4-9361-F2C580CA47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5172FB-3975-48A1-B21E-D3DF1F3008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51368D-F3A0-4457-9F5C-A5593CB0CD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507CE2-3C94-4A2A-A7FA-ADF556315B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6D3112-7886-4210-B10F-5105491471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4241B7-B07E-4841-B7B9-D3735F6740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3D597F-672F-4029-9308-782994D5F6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F95CCB-EF38-40CF-BC4C-D2B42F0551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EBED95-AB6A-4B63-96C8-9686521A06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9F656491-760D-4CD0-9A0A-0805FF3DE6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0AB230-449A-40D5-93F0-9A9C16AF59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5FE483-E521-4AE4-8B57-17D8CEF7751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2FFC5A-DBAD-4492-933D-FF16AA418F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FCF145-F2B9-4E32-A504-F3A3B3B52A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D75740-9FF7-4942-BBB4-48499EB7EB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C76D93-93D3-48FB-ACF9-F3F90FA2D1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2CABCC-3B1B-497F-9C8B-79A8CE74C9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1069A9-A915-4F3B-8E82-20E305C24A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D7EFD5-C6E2-44BA-909A-514604D941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99D3A5-2BBF-421D-907F-CE63E2F3D5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B13DF50-ED46-421B-95EA-FE8C09131C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5C955F-B5B0-4C2B-BBCB-69DDDD67E8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9A63D4-7DAD-491C-9A79-DD048F47E5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B8317F-6E03-4387-8F5F-0108AF1669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25B809-0190-4FF3-BB14-E2017DC8C4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D423C6-F7FD-4A05-BF17-CD4C5604BF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AAA2331E-2228-4069-BA68-4FEDCE3614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117BFD4E-12F7-412B-875F-1EDF8BFAB7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9A6F2E98-0342-429D-986E-F06A58F374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9922BBCA-6067-4DC5-85B3-F06637B619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C9B06D7F-38EC-4563-8EC7-2E27F953A5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C78B908-00FD-486F-8D15-A3CB961C89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8B46E3C5-BBB5-4766-9B44-A8DBEB4837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0830FB9F-1D75-41E8-B9F5-8AF93F4409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132ADDB5-334F-495E-B3A0-C0F48ED396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2499BCB5-9C99-43B1-B869-DFAC914F64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C862C522-22D0-469A-A7D7-F8C563B59C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35F6EF32-DD99-430C-BCAD-91C3FAF180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39052434-9612-431A-9F63-2D03D1156C0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FB6EC42E-A681-4C7F-B7A9-41B69F4259A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98DD360E-D50B-43C2-A0F8-0996EA3D6C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D944D0A2-061B-49C9-9217-551C09BAD69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ound Diagonal Corner Rectangle 6"/>
          <p:cNvGrpSpPr/>
          <p:nvPr/>
        </p:nvGrpSpPr>
        <p:grpSpPr>
          <a:xfrm>
            <a:off x="152280" y="133200"/>
            <a:ext cx="8832960" cy="6591600"/>
            <a:chOff x="152280" y="133200"/>
            <a:chExt cx="8832960" cy="6591600"/>
          </a:xfrm>
        </p:grpSpPr>
        <p:pic>
          <p:nvPicPr>
            <p:cNvPr id="1" name="Round Diagonal Corner Rectangle 6" descr=""/>
            <p:cNvPicPr/>
            <p:nvPr/>
          </p:nvPicPr>
          <p:blipFill>
            <a:blip r:embed="rId3"/>
            <a:stretch/>
          </p:blipFill>
          <p:spPr>
            <a:xfrm>
              <a:off x="152280" y="133200"/>
              <a:ext cx="8832960" cy="659160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158D6-C130-4D25-993B-FAF26D31665A}"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ound Diagonal Corner Rectangle 7"/>
          <p:cNvGrpSpPr/>
          <p:nvPr/>
        </p:nvGrpSpPr>
        <p:grpSpPr>
          <a:xfrm>
            <a:off x="152280" y="133200"/>
            <a:ext cx="8839440" cy="2530800"/>
            <a:chOff x="152280" y="133200"/>
            <a:chExt cx="8839440" cy="2530800"/>
          </a:xfrm>
        </p:grpSpPr>
        <p:pic>
          <p:nvPicPr>
            <p:cNvPr id="45" name="Round Diagonal Corner Rectangle 7" descr=""/>
            <p:cNvPicPr/>
            <p:nvPr/>
          </p:nvPicPr>
          <p:blipFill>
            <a:blip r:embed="rId3"/>
            <a:stretch/>
          </p:blipFill>
          <p:spPr>
            <a:xfrm>
              <a:off x="152280" y="133200"/>
              <a:ext cx="8839440" cy="253080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F054D-113B-499B-AF31-3A98DC5EC970}"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Round Diagonal Corner Rectangle 6"/>
          <p:cNvGrpSpPr/>
          <p:nvPr/>
        </p:nvGrpSpPr>
        <p:grpSpPr>
          <a:xfrm>
            <a:off x="152280" y="133200"/>
            <a:ext cx="8832960" cy="6591600"/>
            <a:chOff x="152280" y="133200"/>
            <a:chExt cx="8832960" cy="6591600"/>
          </a:xfrm>
        </p:grpSpPr>
        <p:pic>
          <p:nvPicPr>
            <p:cNvPr id="89" name="Round Diagonal Corner Rectangle 6" descr=""/>
            <p:cNvPicPr/>
            <p:nvPr/>
          </p:nvPicPr>
          <p:blipFill>
            <a:blip r:embed="rId3"/>
            <a:stretch/>
          </p:blipFill>
          <p:spPr>
            <a:xfrm>
              <a:off x="152280" y="133200"/>
              <a:ext cx="8832960" cy="659160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91"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4A37C-24F1-4202-8BF4-E700115427D7}"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Rectangle 7"/>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FCA1C-5690-4526-9E0D-DA25B47A0E33}"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Round Diagonal Corner Rectangle 6"/>
          <p:cNvGrpSpPr/>
          <p:nvPr/>
        </p:nvGrpSpPr>
        <p:grpSpPr>
          <a:xfrm>
            <a:off x="152280" y="133200"/>
            <a:ext cx="8832960" cy="6591600"/>
            <a:chOff x="152280" y="133200"/>
            <a:chExt cx="8832960" cy="6591600"/>
          </a:xfrm>
        </p:grpSpPr>
        <p:pic>
          <p:nvPicPr>
            <p:cNvPr id="176" name="Round Diagonal Corner Rectangle 6" descr=""/>
            <p:cNvPicPr/>
            <p:nvPr/>
          </p:nvPicPr>
          <p:blipFill>
            <a:blip r:embed="rId3"/>
            <a:stretch/>
          </p:blipFill>
          <p:spPr>
            <a:xfrm>
              <a:off x="152280" y="133200"/>
              <a:ext cx="8832960" cy="659160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178"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05725-330E-4021-AE46-12A8C475242E}"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Round Diagonal Corner Rectangle 6"/>
          <p:cNvGrpSpPr/>
          <p:nvPr/>
        </p:nvGrpSpPr>
        <p:grpSpPr>
          <a:xfrm>
            <a:off x="152280" y="133200"/>
            <a:ext cx="8832960" cy="6591600"/>
            <a:chOff x="152280" y="133200"/>
            <a:chExt cx="8832960" cy="6591600"/>
          </a:xfrm>
        </p:grpSpPr>
        <p:pic>
          <p:nvPicPr>
            <p:cNvPr id="221" name="Round Diagonal Corner Rectangle 6" descr=""/>
            <p:cNvPicPr/>
            <p:nvPr/>
          </p:nvPicPr>
          <p:blipFill>
            <a:blip r:embed="rId3"/>
            <a:stretch/>
          </p:blipFill>
          <p:spPr>
            <a:xfrm>
              <a:off x="152280" y="133200"/>
              <a:ext cx="8832960" cy="659160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223" name="Rectangle 7"/>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24" name="Rectangle 8"/>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ED7AC-B6B1-4C03-8476-34AB9C01AB29}"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Round Diagonal Corner Rectangle 6"/>
          <p:cNvGrpSpPr/>
          <p:nvPr/>
        </p:nvGrpSpPr>
        <p:grpSpPr>
          <a:xfrm>
            <a:off x="152280" y="133200"/>
            <a:ext cx="8832960" cy="6591600"/>
            <a:chOff x="152280" y="133200"/>
            <a:chExt cx="8832960" cy="6591600"/>
          </a:xfrm>
        </p:grpSpPr>
        <p:pic>
          <p:nvPicPr>
            <p:cNvPr id="267" name="Round Diagonal Corner Rectangle 6" descr=""/>
            <p:cNvPicPr/>
            <p:nvPr/>
          </p:nvPicPr>
          <p:blipFill>
            <a:blip r:embed="rId3"/>
            <a:stretch/>
          </p:blipFill>
          <p:spPr>
            <a:xfrm>
              <a:off x="152280" y="133200"/>
              <a:ext cx="8832960" cy="659160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269"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AB61A-2555-4931-90F5-090F5DB22F93}"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1" name="Rectangle 7"/>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4FD8B-5F40-45A2-8791-E0028256A661}"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40920-F042-46DD-BB53-938B3065C3A3}"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4" name="Title 1" descr=""/>
          <p:cNvPicPr/>
          <p:nvPr/>
        </p:nvPicPr>
        <p:blipFill>
          <a:blip r:embed="rId2"/>
          <a:stretch/>
        </p:blipFill>
        <p:spPr>
          <a:xfrm>
            <a:off x="457200" y="378000"/>
            <a:ext cx="8607600" cy="2242800"/>
          </a:xfrm>
          <a:prstGeom prst="rect">
            <a:avLst/>
          </a:prstGeom>
          <a:ln w="0">
            <a:noFill/>
          </a:ln>
        </p:spPr>
      </p:pic>
      <p:sp>
        <p:nvSpPr>
          <p:cNvPr id="395" name="PlaceHolder 1"/>
          <p:cNvSpPr>
            <a:spLocks noGrp="1"/>
          </p:cNvSpPr>
          <p:nvPr>
            <p:ph type="subTitle"/>
          </p:nvPr>
        </p:nvSpPr>
        <p:spPr>
          <a:xfrm>
            <a:off x="2133360" y="2819520"/>
            <a:ext cx="6559560" cy="1752480"/>
          </a:xfrm>
          <a:prstGeom prst="rect">
            <a:avLst/>
          </a:prstGeom>
          <a:noFill/>
          <a:ln w="0">
            <a:noFill/>
          </a:ln>
        </p:spPr>
        <p:txBody>
          <a:bodyPr lIns="45720" rIns="24696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Rockwell"/>
              </a:rPr>
              <a:t>Oct. 14</a:t>
            </a:r>
            <a:endParaRPr b="0" lang="en-US" sz="60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6" name="Title 1" descr=""/>
          <p:cNvPicPr/>
          <p:nvPr/>
        </p:nvPicPr>
        <p:blipFill>
          <a:blip r:embed="rId2"/>
          <a:stretch/>
        </p:blipFill>
        <p:spPr>
          <a:xfrm>
            <a:off x="450720" y="249120"/>
            <a:ext cx="8541000" cy="1165320"/>
          </a:xfrm>
          <a:prstGeom prst="rect">
            <a:avLst/>
          </a:prstGeom>
          <a:ln w="0">
            <a:noFill/>
          </a:ln>
        </p:spPr>
      </p:pic>
      <p:sp>
        <p:nvSpPr>
          <p:cNvPr id="397"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DOL</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h. 14 questions</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h. 15, do journal response</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Read Ch. 16</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Watch some of the movie</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8" name="Title 1" descr=""/>
          <p:cNvPicPr/>
          <p:nvPr/>
        </p:nvPicPr>
        <p:blipFill>
          <a:blip r:embed="rId2"/>
          <a:stretch/>
        </p:blipFill>
        <p:spPr>
          <a:xfrm>
            <a:off x="450720" y="249120"/>
            <a:ext cx="8541000" cy="1165320"/>
          </a:xfrm>
          <a:prstGeom prst="rect">
            <a:avLst/>
          </a:prstGeom>
          <a:ln w="0">
            <a:noFill/>
          </a:ln>
        </p:spPr>
      </p:pic>
      <p:sp>
        <p:nvSpPr>
          <p:cNvPr id="399"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Its true that anybody whose had Ms Anderson give her or him a literture assinement could of been confused about the amount of pages to read.</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trength:Frail::grace:_______</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peak:Mispronounce::write:_______</a:t>
            </a:r>
            <a:endParaRPr b="0" lang="en-US" sz="3200" spc="-1" strike="noStrike">
              <a:solidFill>
                <a:srgbClr val="ffffff"/>
              </a:solidFill>
              <a:latin typeface="Rockwel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0" name="Title 1" descr=""/>
          <p:cNvPicPr/>
          <p:nvPr/>
        </p:nvPicPr>
        <p:blipFill>
          <a:blip r:embed="rId2"/>
          <a:stretch/>
        </p:blipFill>
        <p:spPr>
          <a:xfrm>
            <a:off x="450720" y="249120"/>
            <a:ext cx="8541000" cy="1165320"/>
          </a:xfrm>
          <a:prstGeom prst="rect">
            <a:avLst/>
          </a:prstGeom>
          <a:ln w="0">
            <a:noFill/>
          </a:ln>
        </p:spPr>
      </p:pic>
      <p:sp>
        <p:nvSpPr>
          <p:cNvPr id="401"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Archie and Leon seem to have a lot of the same character traits. List several ways in which they are the same.</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2" name="Title 1" descr=""/>
          <p:cNvPicPr/>
          <p:nvPr/>
        </p:nvPicPr>
        <p:blipFill>
          <a:blip r:embed="rId2"/>
          <a:stretch/>
        </p:blipFill>
        <p:spPr>
          <a:xfrm>
            <a:off x="-6480" y="249120"/>
            <a:ext cx="8491680" cy="1158840"/>
          </a:xfrm>
          <a:prstGeom prst="rect">
            <a:avLst/>
          </a:prstGeom>
          <a:ln w="0">
            <a:noFill/>
          </a:ln>
        </p:spPr>
      </p:pic>
      <p:sp>
        <p:nvSpPr>
          <p:cNvPr id="403" name="Rectangle 3"/>
          <p:cNvSpPr/>
          <p:nvPr/>
        </p:nvSpPr>
        <p:spPr>
          <a:xfrm>
            <a:off x="457200" y="1523880"/>
            <a:ext cx="82296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Rockwel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Archie thinks that the world is made up of two kinds of people: those who are victims and those who victimize. Assuming Archie is right, what kind of person do you think you are? Explain your answer, supporting it with at least two details from your life.</a:t>
            </a:r>
            <a:endParaRPr b="0" lang="en-US" sz="36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h. 16</a:t>
            </a:r>
            <a:endParaRPr b="0" lang="en-US" sz="4600" spc="-1" strike="noStrike">
              <a:solidFill>
                <a:srgbClr val="e7eacb"/>
              </a:solidFill>
              <a:latin typeface="Rockwell"/>
            </a:endParaRPr>
          </a:p>
        </p:txBody>
      </p:sp>
      <p:sp>
        <p:nvSpPr>
          <p:cNvPr id="40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roughout Caroni and Brother Leon’s conversation, Cormier lets us</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know what Caroni is thinking. Write a paragraph’s worth of thoughts that</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might be running through Leon’s head during their meeting. What is he trying to accomplish?</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6" name="Title 1" descr=""/>
          <p:cNvPicPr/>
          <p:nvPr/>
        </p:nvPicPr>
        <p:blipFill>
          <a:blip r:embed="rId2"/>
          <a:stretch/>
        </p:blipFill>
        <p:spPr>
          <a:xfrm>
            <a:off x="450720" y="249120"/>
            <a:ext cx="8541000" cy="1165320"/>
          </a:xfrm>
          <a:prstGeom prst="rect">
            <a:avLst/>
          </a:prstGeom>
          <a:ln w="0">
            <a:noFill/>
          </a:ln>
        </p:spPr>
      </p:pic>
      <p:sp>
        <p:nvSpPr>
          <p:cNvPr id="407"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Read ch. 17 and 18 for tomorrow</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3T23:14:32Z</dcterms:created>
  <dc:creator>litchfield</dc:creator>
  <dc:description/>
  <dc:language>en-US</dc:language>
  <cp:lastModifiedBy>VMS</cp:lastModifiedBy>
  <dcterms:modified xsi:type="dcterms:W3CDTF">2009-10-14T13:34:56Z</dcterms:modified>
  <cp:revision>3</cp:revision>
  <dc:subject/>
  <dc:title>English</dc:title>
</cp:coreProperties>
</file>